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7CA-5859-4DA5-9FB3-460EBE0D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660-55FF-41A3-8EC9-96161D1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1DD-16F5-4054-8A45-9439F5D3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233-7F6E-4474-9684-34173F06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BFC-0745-4D09-B6F7-6FD25F8E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200-1F0F-4709-A0BF-B4592C3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062-4978-4687-8BD4-8E03951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6D8-160B-470A-A9B1-5F8B144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BD0-9412-4A59-A0C3-218436C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780-BBB8-46E5-83BC-E0AC869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CD2-431D-4301-A179-979E0A9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DD7-E6FB-4A57-88D7-C70B41D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F0A-566E-48DF-BD8B-A630309ADC8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9 Chcem teb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eť chv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mojej vier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né vyzn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tebe jedi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pase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eť chv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ďačným srdcom priniesť na oltá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 láske svojej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st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rne sprevádza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a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 patr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a sláva,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tvojou mocnou ru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m s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oň v milosti sa ku mne,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 vďaky t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oslavu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ne stvor srdce nov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s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v ňom dozr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a ovoc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mne si zbud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ej lásky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a ti stá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ej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prosby moje,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Záchran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rný Obhaj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rukou svoj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a k ci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domov chyst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mňa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05:07Z</dcterms:modified>
  <cp:revision>15</cp:revision>
  <dc:subject/>
  <dc:title>Je veľký náš Pán, on slávy je Kráľ Nech do všetkých strán  spev vrúcnych znie chvál.</dc:title>
</cp:coreProperties>
</file>